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3D8D3-C3A9-4D50-BB74-838A9DCD126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rection of acceleration due to gravity vect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rection of acceleration due to gravity ve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3. A baseball tossed up in the air, at the top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vector is oriented dow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3. A baseball tossed up in the air, at the top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vector is oriented d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4. A baseball tossed up in the air, right before it strikes the groun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4. A baseball tossed up in the air, right before it strikes the grou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4. A baseball tossed up in the air, right before it strikes the groun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vector is oriented dow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4. A baseball tossed up in the air, right before it strikes the grou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vector is oriented d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5. A football is thrown at a 450 angle, at the top of its pa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5. A football is thrown at a 450 angle, at the top of its pa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5. A football is thrown at a 450 angle, at the top of its pa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vector is oriented dow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5. A football is thrown at a 450 angle, at the top of its pa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vector is oriented d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6. A cannonball rolling off a t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6. A cannonball rolling off a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6. A cannonball rolling off a t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vector is oriented dow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6. A cannonball rolling off a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vector is oriented d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can you summarize about the direction of the vector representing acceleration of all these object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other example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n you summarize about the direction of the vector representing acceleration of all these objec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other exampl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ock pebble football and all have different masses. How does this affect the magnitude of the acceleration vector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Earth, what would its magnitude b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ock pebble football and all have different masses. How does this affect the magnitude of the acceleration vec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Earth, what would its magnitude b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celeration due to gravity is a vector quant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leration due to gravity is a vector quant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ctors can be represented by an arrow to show magnitude and dir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ctors can be represented by an arrow to show magnitude and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your whiteboards, draw the direction of acceleration for the following objec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ashed line represents its pa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 not drawn to sca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your whiteboards, draw the direction of acceleration for the following obje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ashed line represents it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not drawn to sc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1. A pebble dropped from a brid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. A pebble dropped from a b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1. A pebble dropped from a brid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vector is oriented dow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. A pebble dropped from a b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vector is oriented d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2. A baseball tossed up in the air, halfway up the path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2. A baseball tossed up in the air, halfway up the path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2. A baseball tossed up in the air, halfway up the path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vector is oriented dow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2. A baseball tossed up in the air, halfway up the pa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vector is oriented d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3. A baseball tossed up in the air, at the top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3. A baseball tossed up in the air, at the top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C658-17F3-47E9-85CC-76F45D152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D350-DA94-4309-B125-F940B4D9D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D7C0-F59D-48A3-AEA2-9231F5CCF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1340-FF9D-4445-A1EB-AD0A61F5C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1182-8958-4389-8D60-10DD5ACEC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9416-4553-42DA-ADD1-97F169C4E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9F30-A8FC-49EF-AAA0-8B3252CF9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7399-FBA5-4B97-8DA6-0AE91DBAB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7A17-C3E2-452D-9E98-0A7C8EC89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ECC7-8C01-4099-B8D8-0B1CA6D83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A11B-F8FC-42E3-9B50-100D624D6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341D-9E8A-4BEF-B742-FF3A8243C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D673D-1FE4-4A65-98F7-04A016A147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rection of acceleration due to gravity vec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560" y="274680"/>
            <a:ext cx="8381880" cy="944640"/>
          </a:xfrm>
          <a:prstGeom prst="rect">
            <a:avLst/>
          </a:prstGeom>
          <a:solidFill>
            <a:srgbClr val="fafde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3. A baseball tossed up in the air, at the top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4"/>
          <p:cNvSpPr/>
          <p:nvPr/>
        </p:nvSpPr>
        <p:spPr>
          <a:xfrm>
            <a:off x="2666880" y="190512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5"/>
          <p:cNvSpPr/>
          <p:nvPr/>
        </p:nvSpPr>
        <p:spPr>
          <a:xfrm>
            <a:off x="1981080" y="5867280"/>
            <a:ext cx="4267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7"/>
          <p:cNvSpPr/>
          <p:nvPr/>
        </p:nvSpPr>
        <p:spPr>
          <a:xfrm>
            <a:off x="2666880" y="1981080"/>
            <a:ext cx="228600" cy="3886200"/>
          </a:xfrm>
          <a:custGeom>
            <a:avLst/>
            <a:gdLst/>
            <a:ahLst/>
            <a:rect l="l" t="t" r="r" b="b"/>
            <a:pathLst>
              <a:path w="144" h="2448">
                <a:moveTo>
                  <a:pt x="0" y="2448"/>
                </a:moveTo>
                <a:cubicBezTo>
                  <a:pt x="12" y="1224"/>
                  <a:pt x="24" y="0"/>
                  <a:pt x="48" y="0"/>
                </a:cubicBezTo>
                <a:cubicBezTo>
                  <a:pt x="72" y="0"/>
                  <a:pt x="128" y="2040"/>
                  <a:pt x="144" y="2448"/>
                </a:cubicBezTo>
              </a:path>
            </a:pathLst>
          </a:custGeom>
          <a:noFill/>
          <a:ln cap="rnd" w="2844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10"/>
          <p:cNvSpPr/>
          <p:nvPr/>
        </p:nvSpPr>
        <p:spPr>
          <a:xfrm>
            <a:off x="2743200" y="2133720"/>
            <a:ext cx="0" cy="8380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1"/>
          <p:cNvSpPr/>
          <p:nvPr/>
        </p:nvSpPr>
        <p:spPr>
          <a:xfrm>
            <a:off x="4952880" y="3124080"/>
            <a:ext cx="3962520" cy="1312920"/>
          </a:xfrm>
          <a:prstGeom prst="rect">
            <a:avLst/>
          </a:prstGeom>
          <a:solidFill>
            <a:srgbClr val="fbeffb"/>
          </a:solidFill>
          <a:ln w="9360">
            <a:solidFill>
              <a:srgbClr val="f9e7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vector is oriented dow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solidFill>
            <a:srgbClr val="e7f9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4.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 baseball tossed up in the air, right before it strikes the groun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4"/>
          <p:cNvSpPr/>
          <p:nvPr/>
        </p:nvSpPr>
        <p:spPr>
          <a:xfrm>
            <a:off x="3200400" y="5943600"/>
            <a:ext cx="228600" cy="228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5"/>
          <p:cNvSpPr/>
          <p:nvPr/>
        </p:nvSpPr>
        <p:spPr>
          <a:xfrm>
            <a:off x="2057400" y="6324480"/>
            <a:ext cx="42670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WordArt 6"/>
          <p:cNvSpPr txBox="1"/>
          <p:nvPr/>
        </p:nvSpPr>
        <p:spPr>
          <a:xfrm>
            <a:off x="5257800" y="2590920"/>
            <a:ext cx="2743200" cy="23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Answ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00" name="Freeform 7"/>
          <p:cNvSpPr/>
          <p:nvPr/>
        </p:nvSpPr>
        <p:spPr>
          <a:xfrm>
            <a:off x="3124080" y="2133720"/>
            <a:ext cx="228600" cy="4114800"/>
          </a:xfrm>
          <a:custGeom>
            <a:avLst/>
            <a:gdLst/>
            <a:ahLst/>
            <a:rect l="l" t="t" r="r" b="b"/>
            <a:pathLst>
              <a:path w="144" h="2448">
                <a:moveTo>
                  <a:pt x="0" y="2448"/>
                </a:moveTo>
                <a:cubicBezTo>
                  <a:pt x="12" y="1224"/>
                  <a:pt x="24" y="0"/>
                  <a:pt x="48" y="0"/>
                </a:cubicBezTo>
                <a:cubicBezTo>
                  <a:pt x="72" y="0"/>
                  <a:pt x="128" y="2040"/>
                  <a:pt x="144" y="2448"/>
                </a:cubicBezTo>
              </a:path>
            </a:pathLst>
          </a:custGeom>
          <a:noFill/>
          <a:ln cap="rnd" w="2844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560" y="274680"/>
            <a:ext cx="8381880" cy="944640"/>
          </a:xfrm>
          <a:prstGeom prst="rect">
            <a:avLst/>
          </a:prstGeom>
          <a:solidFill>
            <a:srgbClr val="e7f9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4.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 baseball tossed up in the air, right before it strikes the groun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4"/>
          <p:cNvSpPr/>
          <p:nvPr/>
        </p:nvSpPr>
        <p:spPr>
          <a:xfrm>
            <a:off x="3200400" y="5943600"/>
            <a:ext cx="228600" cy="228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5"/>
          <p:cNvSpPr/>
          <p:nvPr/>
        </p:nvSpPr>
        <p:spPr>
          <a:xfrm>
            <a:off x="2057400" y="6324480"/>
            <a:ext cx="42670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reeform 7"/>
          <p:cNvSpPr/>
          <p:nvPr/>
        </p:nvSpPr>
        <p:spPr>
          <a:xfrm>
            <a:off x="3124080" y="2133720"/>
            <a:ext cx="228600" cy="4114800"/>
          </a:xfrm>
          <a:custGeom>
            <a:avLst/>
            <a:gdLst/>
            <a:ahLst/>
            <a:rect l="l" t="t" r="r" b="b"/>
            <a:pathLst>
              <a:path w="144" h="2448">
                <a:moveTo>
                  <a:pt x="0" y="2448"/>
                </a:moveTo>
                <a:cubicBezTo>
                  <a:pt x="12" y="1224"/>
                  <a:pt x="24" y="0"/>
                  <a:pt x="48" y="0"/>
                </a:cubicBezTo>
                <a:cubicBezTo>
                  <a:pt x="72" y="0"/>
                  <a:pt x="128" y="2040"/>
                  <a:pt x="144" y="2448"/>
                </a:cubicBezTo>
              </a:path>
            </a:pathLst>
          </a:custGeom>
          <a:noFill/>
          <a:ln cap="rnd" w="2844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8"/>
          <p:cNvSpPr/>
          <p:nvPr/>
        </p:nvSpPr>
        <p:spPr>
          <a:xfrm>
            <a:off x="3352680" y="6019920"/>
            <a:ext cx="0" cy="8380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4952880" y="3124080"/>
            <a:ext cx="3962520" cy="1312920"/>
          </a:xfrm>
          <a:prstGeom prst="rect">
            <a:avLst/>
          </a:prstGeom>
          <a:solidFill>
            <a:srgbClr val="fbeffb"/>
          </a:solidFill>
          <a:ln w="9360">
            <a:solidFill>
              <a:srgbClr val="f9e7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vector is oriented dow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274680"/>
            <a:ext cx="8381880" cy="944640"/>
          </a:xfrm>
          <a:prstGeom prst="rect">
            <a:avLst/>
          </a:prstGeom>
          <a:solidFill>
            <a:srgbClr val="fafde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5. A football is thrown at a 45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gle, at the top of its pa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5"/>
          <p:cNvSpPr/>
          <p:nvPr/>
        </p:nvSpPr>
        <p:spPr>
          <a:xfrm>
            <a:off x="1981080" y="5867280"/>
            <a:ext cx="4267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reeform 7"/>
          <p:cNvSpPr/>
          <p:nvPr/>
        </p:nvSpPr>
        <p:spPr>
          <a:xfrm>
            <a:off x="1523880" y="2362320"/>
            <a:ext cx="4572000" cy="4064040"/>
          </a:xfrm>
          <a:custGeom>
            <a:avLst/>
            <a:gdLst/>
            <a:ahLst/>
            <a:rect l="l" t="t" r="r" b="b"/>
            <a:pathLst>
              <a:path w="2320" h="2608">
                <a:moveTo>
                  <a:pt x="160" y="2320"/>
                </a:moveTo>
                <a:cubicBezTo>
                  <a:pt x="80" y="2464"/>
                  <a:pt x="0" y="2608"/>
                  <a:pt x="160" y="2224"/>
                </a:cubicBezTo>
                <a:cubicBezTo>
                  <a:pt x="320" y="1840"/>
                  <a:pt x="760" y="0"/>
                  <a:pt x="1120" y="16"/>
                </a:cubicBezTo>
                <a:cubicBezTo>
                  <a:pt x="1480" y="32"/>
                  <a:pt x="1900" y="1176"/>
                  <a:pt x="2320" y="23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WordArt 8"/>
          <p:cNvSpPr txBox="1"/>
          <p:nvPr/>
        </p:nvSpPr>
        <p:spPr>
          <a:xfrm>
            <a:off x="5257800" y="2590920"/>
            <a:ext cx="2743200" cy="23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Answ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13" name="Oval 10"/>
          <p:cNvSpPr/>
          <p:nvPr/>
        </p:nvSpPr>
        <p:spPr>
          <a:xfrm flipV="1">
            <a:off x="3505320" y="2285280"/>
            <a:ext cx="380880" cy="228600"/>
          </a:xfrm>
          <a:prstGeom prst="ellipse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560" y="274680"/>
            <a:ext cx="8381880" cy="944640"/>
          </a:xfrm>
          <a:prstGeom prst="rect">
            <a:avLst/>
          </a:prstGeom>
          <a:solidFill>
            <a:srgbClr val="fafde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5. A football is thrown at a 45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gle, at the top of its pa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4"/>
          <p:cNvSpPr/>
          <p:nvPr/>
        </p:nvSpPr>
        <p:spPr>
          <a:xfrm>
            <a:off x="3429000" y="2133720"/>
            <a:ext cx="457200" cy="152280"/>
          </a:xfrm>
          <a:prstGeom prst="ellipse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5"/>
          <p:cNvSpPr/>
          <p:nvPr/>
        </p:nvSpPr>
        <p:spPr>
          <a:xfrm>
            <a:off x="1981080" y="5867280"/>
            <a:ext cx="4267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>
            <a:off x="3657600" y="2209680"/>
            <a:ext cx="0" cy="8384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reeform 8"/>
          <p:cNvSpPr/>
          <p:nvPr/>
        </p:nvSpPr>
        <p:spPr>
          <a:xfrm>
            <a:off x="1447920" y="2209680"/>
            <a:ext cx="4572000" cy="4064040"/>
          </a:xfrm>
          <a:custGeom>
            <a:avLst/>
            <a:gdLst/>
            <a:ahLst/>
            <a:rect l="l" t="t" r="r" b="b"/>
            <a:pathLst>
              <a:path w="2320" h="2608">
                <a:moveTo>
                  <a:pt x="160" y="2320"/>
                </a:moveTo>
                <a:cubicBezTo>
                  <a:pt x="80" y="2464"/>
                  <a:pt x="0" y="2608"/>
                  <a:pt x="160" y="2224"/>
                </a:cubicBezTo>
                <a:cubicBezTo>
                  <a:pt x="320" y="1840"/>
                  <a:pt x="760" y="0"/>
                  <a:pt x="1120" y="16"/>
                </a:cubicBezTo>
                <a:cubicBezTo>
                  <a:pt x="1480" y="32"/>
                  <a:pt x="1900" y="1176"/>
                  <a:pt x="2320" y="23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9"/>
          <p:cNvSpPr/>
          <p:nvPr/>
        </p:nvSpPr>
        <p:spPr>
          <a:xfrm>
            <a:off x="4952880" y="3124080"/>
            <a:ext cx="3962520" cy="1312920"/>
          </a:xfrm>
          <a:prstGeom prst="rect">
            <a:avLst/>
          </a:prstGeom>
          <a:solidFill>
            <a:srgbClr val="fbeffb"/>
          </a:solidFill>
          <a:ln w="9360">
            <a:solidFill>
              <a:srgbClr val="f9e7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vector is oriented dow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560" y="274680"/>
            <a:ext cx="8381880" cy="944640"/>
          </a:xfrm>
          <a:prstGeom prst="rect">
            <a:avLst/>
          </a:prstGeom>
          <a:solidFill>
            <a:srgbClr val="e7f9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6.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 cannonball rolling off a tab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5"/>
          <p:cNvSpPr/>
          <p:nvPr/>
        </p:nvSpPr>
        <p:spPr>
          <a:xfrm>
            <a:off x="1981080" y="5867280"/>
            <a:ext cx="4267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WordArt 7"/>
          <p:cNvSpPr txBox="1"/>
          <p:nvPr/>
        </p:nvSpPr>
        <p:spPr>
          <a:xfrm>
            <a:off x="5257800" y="2590920"/>
            <a:ext cx="2743200" cy="23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Answ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25" name="Line 8"/>
          <p:cNvSpPr/>
          <p:nvPr/>
        </p:nvSpPr>
        <p:spPr>
          <a:xfrm>
            <a:off x="0" y="388620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9"/>
          <p:cNvSpPr/>
          <p:nvPr/>
        </p:nvSpPr>
        <p:spPr>
          <a:xfrm>
            <a:off x="2209680" y="388620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10"/>
          <p:cNvSpPr/>
          <p:nvPr/>
        </p:nvSpPr>
        <p:spPr>
          <a:xfrm>
            <a:off x="3200400" y="365760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reeform 11"/>
          <p:cNvSpPr/>
          <p:nvPr/>
        </p:nvSpPr>
        <p:spPr>
          <a:xfrm>
            <a:off x="2209680" y="3733920"/>
            <a:ext cx="2743200" cy="2133360"/>
          </a:xfrm>
          <a:custGeom>
            <a:avLst/>
            <a:gdLst/>
            <a:ahLst/>
            <a:rect l="l" t="t" r="r" b="b"/>
            <a:pathLst>
              <a:path w="1728" h="1344">
                <a:moveTo>
                  <a:pt x="0" y="48"/>
                </a:moveTo>
                <a:cubicBezTo>
                  <a:pt x="264" y="24"/>
                  <a:pt x="528" y="0"/>
                  <a:pt x="768" y="96"/>
                </a:cubicBezTo>
                <a:cubicBezTo>
                  <a:pt x="1008" y="192"/>
                  <a:pt x="1280" y="416"/>
                  <a:pt x="1440" y="624"/>
                </a:cubicBezTo>
                <a:cubicBezTo>
                  <a:pt x="1600" y="832"/>
                  <a:pt x="1664" y="1088"/>
                  <a:pt x="1728" y="134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2"/>
          <p:cNvSpPr/>
          <p:nvPr/>
        </p:nvSpPr>
        <p:spPr>
          <a:xfrm>
            <a:off x="0" y="3809880"/>
            <a:ext cx="22096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153280" cy="990720"/>
          </a:xfrm>
          <a:prstGeom prst="rect">
            <a:avLst/>
          </a:prstGeom>
          <a:solidFill>
            <a:srgbClr val="e7f9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6.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 cannonball rolling off a tab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5"/>
          <p:cNvSpPr/>
          <p:nvPr/>
        </p:nvSpPr>
        <p:spPr>
          <a:xfrm>
            <a:off x="1981080" y="5867280"/>
            <a:ext cx="4267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7"/>
          <p:cNvSpPr/>
          <p:nvPr/>
        </p:nvSpPr>
        <p:spPr>
          <a:xfrm>
            <a:off x="0" y="388620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8"/>
          <p:cNvSpPr/>
          <p:nvPr/>
        </p:nvSpPr>
        <p:spPr>
          <a:xfrm>
            <a:off x="2209680" y="388620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9"/>
          <p:cNvSpPr/>
          <p:nvPr/>
        </p:nvSpPr>
        <p:spPr>
          <a:xfrm>
            <a:off x="3200400" y="365760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reeform 10"/>
          <p:cNvSpPr/>
          <p:nvPr/>
        </p:nvSpPr>
        <p:spPr>
          <a:xfrm>
            <a:off x="2209680" y="3733920"/>
            <a:ext cx="2743200" cy="2133360"/>
          </a:xfrm>
          <a:custGeom>
            <a:avLst/>
            <a:gdLst/>
            <a:ahLst/>
            <a:rect l="l" t="t" r="r" b="b"/>
            <a:pathLst>
              <a:path w="1728" h="1344">
                <a:moveTo>
                  <a:pt x="0" y="48"/>
                </a:moveTo>
                <a:cubicBezTo>
                  <a:pt x="264" y="24"/>
                  <a:pt x="528" y="0"/>
                  <a:pt x="768" y="96"/>
                </a:cubicBezTo>
                <a:cubicBezTo>
                  <a:pt x="1008" y="192"/>
                  <a:pt x="1280" y="416"/>
                  <a:pt x="1440" y="624"/>
                </a:cubicBezTo>
                <a:cubicBezTo>
                  <a:pt x="1600" y="832"/>
                  <a:pt x="1664" y="1088"/>
                  <a:pt x="1728" y="134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1"/>
          <p:cNvSpPr/>
          <p:nvPr/>
        </p:nvSpPr>
        <p:spPr>
          <a:xfrm>
            <a:off x="0" y="3809880"/>
            <a:ext cx="22096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2"/>
          <p:cNvSpPr/>
          <p:nvPr/>
        </p:nvSpPr>
        <p:spPr>
          <a:xfrm>
            <a:off x="3352680" y="3962520"/>
            <a:ext cx="0" cy="8380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3"/>
          <p:cNvSpPr/>
          <p:nvPr/>
        </p:nvSpPr>
        <p:spPr>
          <a:xfrm>
            <a:off x="4952880" y="3124080"/>
            <a:ext cx="3962520" cy="1312920"/>
          </a:xfrm>
          <a:prstGeom prst="rect">
            <a:avLst/>
          </a:prstGeom>
          <a:solidFill>
            <a:srgbClr val="fbeffb"/>
          </a:solidFill>
          <a:ln w="9360">
            <a:solidFill>
              <a:srgbClr val="f9e7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vector is oriented dow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solidFill>
            <a:srgbClr val="fafde7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can you summarize about the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directio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of the vector representing acceleration of all these objec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are other exampl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solidFill>
            <a:srgbClr val="f4fafa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ck pebble football and all have different masses. How does this affect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agnitud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celer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vecto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Earth, what would its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magnitud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943600"/>
          </a:xfrm>
          <a:prstGeom prst="rect">
            <a:avLst/>
          </a:prstGeom>
          <a:solidFill>
            <a:srgbClr val="f9e7f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1447920" y="1600200"/>
            <a:ext cx="6629400" cy="256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cceleration due to gravity is a vector quantity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6019560"/>
          </a:xfrm>
          <a:prstGeom prst="rect">
            <a:avLst/>
          </a:prstGeom>
          <a:solidFill>
            <a:srgbClr val="fefeda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Vectors can be represented by an arrow to show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magnitude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dire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4"/>
          <p:cNvSpPr/>
          <p:nvPr/>
        </p:nvSpPr>
        <p:spPr>
          <a:xfrm flipV="1">
            <a:off x="1523880" y="5334120"/>
            <a:ext cx="2743200" cy="1295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5"/>
          <p:cNvSpPr/>
          <p:nvPr/>
        </p:nvSpPr>
        <p:spPr>
          <a:xfrm flipH="1">
            <a:off x="7391520" y="2590920"/>
            <a:ext cx="914400" cy="17524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6"/>
          <p:cNvSpPr/>
          <p:nvPr/>
        </p:nvSpPr>
        <p:spPr>
          <a:xfrm>
            <a:off x="2590920" y="1143000"/>
            <a:ext cx="304560" cy="6094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solidFill>
            <a:srgbClr val="e7f9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n your whiteboards, draw the direction of acceleration for the following object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dashed line represents its pa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not drawn to sc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560" y="274680"/>
            <a:ext cx="8381880" cy="944640"/>
          </a:xfrm>
          <a:prstGeom prst="rect">
            <a:avLst/>
          </a:prstGeom>
          <a:solidFill>
            <a:srgbClr val="fafde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1.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 pebble dropped from a brid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4"/>
          <p:cNvSpPr/>
          <p:nvPr/>
        </p:nvSpPr>
        <p:spPr>
          <a:xfrm>
            <a:off x="3809880" y="2895480"/>
            <a:ext cx="15264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5"/>
          <p:cNvSpPr/>
          <p:nvPr/>
        </p:nvSpPr>
        <p:spPr>
          <a:xfrm>
            <a:off x="1981080" y="5867280"/>
            <a:ext cx="4267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WordArt 6"/>
          <p:cNvSpPr txBox="1"/>
          <p:nvPr/>
        </p:nvSpPr>
        <p:spPr>
          <a:xfrm>
            <a:off x="5257800" y="2590920"/>
            <a:ext cx="2743200" cy="23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Answ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61" name="Line 7"/>
          <p:cNvSpPr/>
          <p:nvPr/>
        </p:nvSpPr>
        <p:spPr>
          <a:xfrm>
            <a:off x="3886200" y="3048120"/>
            <a:ext cx="0" cy="281916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solidFill>
            <a:srgbClr val="fafde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1. A pebble dropped from a brid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4"/>
          <p:cNvSpPr/>
          <p:nvPr/>
        </p:nvSpPr>
        <p:spPr>
          <a:xfrm>
            <a:off x="3809880" y="2895480"/>
            <a:ext cx="15264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5"/>
          <p:cNvSpPr/>
          <p:nvPr/>
        </p:nvSpPr>
        <p:spPr>
          <a:xfrm>
            <a:off x="1981080" y="5867280"/>
            <a:ext cx="4267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7"/>
          <p:cNvSpPr/>
          <p:nvPr/>
        </p:nvSpPr>
        <p:spPr>
          <a:xfrm>
            <a:off x="3886200" y="2971800"/>
            <a:ext cx="0" cy="8380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8"/>
          <p:cNvSpPr/>
          <p:nvPr/>
        </p:nvSpPr>
        <p:spPr>
          <a:xfrm>
            <a:off x="3886200" y="289548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9"/>
          <p:cNvSpPr/>
          <p:nvPr/>
        </p:nvSpPr>
        <p:spPr>
          <a:xfrm>
            <a:off x="4952880" y="3124080"/>
            <a:ext cx="3962520" cy="1312920"/>
          </a:xfrm>
          <a:prstGeom prst="rect">
            <a:avLst/>
          </a:prstGeom>
          <a:solidFill>
            <a:srgbClr val="fbeffb"/>
          </a:solidFill>
          <a:ln w="9360">
            <a:solidFill>
              <a:srgbClr val="f9e7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vector is oriented dow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560" y="274680"/>
            <a:ext cx="8381880" cy="944640"/>
          </a:xfrm>
          <a:prstGeom prst="rect">
            <a:avLst/>
          </a:prstGeom>
          <a:solidFill>
            <a:srgbClr val="e7f9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2.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 baseball tossed up in the air, halfway up the path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4"/>
          <p:cNvSpPr/>
          <p:nvPr/>
        </p:nvSpPr>
        <p:spPr>
          <a:xfrm>
            <a:off x="2666880" y="4038480"/>
            <a:ext cx="15264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5"/>
          <p:cNvSpPr/>
          <p:nvPr/>
        </p:nvSpPr>
        <p:spPr>
          <a:xfrm>
            <a:off x="1981080" y="5867280"/>
            <a:ext cx="4267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WordArt 6"/>
          <p:cNvSpPr txBox="1"/>
          <p:nvPr/>
        </p:nvSpPr>
        <p:spPr>
          <a:xfrm>
            <a:off x="5257800" y="2590920"/>
            <a:ext cx="2743200" cy="23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Answ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74" name="Freeform 7"/>
          <p:cNvSpPr/>
          <p:nvPr/>
        </p:nvSpPr>
        <p:spPr>
          <a:xfrm>
            <a:off x="2743200" y="1981080"/>
            <a:ext cx="228600" cy="3886200"/>
          </a:xfrm>
          <a:custGeom>
            <a:avLst/>
            <a:gdLst/>
            <a:ahLst/>
            <a:rect l="l" t="t" r="r" b="b"/>
            <a:pathLst>
              <a:path w="144" h="2448">
                <a:moveTo>
                  <a:pt x="0" y="2448"/>
                </a:moveTo>
                <a:cubicBezTo>
                  <a:pt x="12" y="1224"/>
                  <a:pt x="24" y="0"/>
                  <a:pt x="48" y="0"/>
                </a:cubicBezTo>
                <a:cubicBezTo>
                  <a:pt x="72" y="0"/>
                  <a:pt x="128" y="2040"/>
                  <a:pt x="144" y="2448"/>
                </a:cubicBezTo>
              </a:path>
            </a:pathLst>
          </a:custGeom>
          <a:noFill/>
          <a:ln cap="rnd" w="2844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560" y="274680"/>
            <a:ext cx="8381880" cy="944640"/>
          </a:xfrm>
          <a:prstGeom prst="rect">
            <a:avLst/>
          </a:prstGeom>
          <a:solidFill>
            <a:srgbClr val="e7f9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2.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 baseball tossed up in the air, halfway u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path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4"/>
          <p:cNvSpPr/>
          <p:nvPr/>
        </p:nvSpPr>
        <p:spPr>
          <a:xfrm>
            <a:off x="2666880" y="4038480"/>
            <a:ext cx="15264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5"/>
          <p:cNvSpPr/>
          <p:nvPr/>
        </p:nvSpPr>
        <p:spPr>
          <a:xfrm>
            <a:off x="1981080" y="5867280"/>
            <a:ext cx="4267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reeform 7"/>
          <p:cNvSpPr/>
          <p:nvPr/>
        </p:nvSpPr>
        <p:spPr>
          <a:xfrm>
            <a:off x="2743200" y="1981080"/>
            <a:ext cx="228600" cy="3886200"/>
          </a:xfrm>
          <a:custGeom>
            <a:avLst/>
            <a:gdLst/>
            <a:ahLst/>
            <a:rect l="l" t="t" r="r" b="b"/>
            <a:pathLst>
              <a:path w="144" h="2448">
                <a:moveTo>
                  <a:pt x="0" y="2448"/>
                </a:moveTo>
                <a:cubicBezTo>
                  <a:pt x="12" y="1224"/>
                  <a:pt x="24" y="0"/>
                  <a:pt x="48" y="0"/>
                </a:cubicBezTo>
                <a:cubicBezTo>
                  <a:pt x="72" y="0"/>
                  <a:pt x="128" y="2040"/>
                  <a:pt x="144" y="2448"/>
                </a:cubicBezTo>
              </a:path>
            </a:pathLst>
          </a:custGeom>
          <a:noFill/>
          <a:ln cap="rnd" w="2844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8"/>
          <p:cNvSpPr/>
          <p:nvPr/>
        </p:nvSpPr>
        <p:spPr>
          <a:xfrm>
            <a:off x="2743200" y="4191120"/>
            <a:ext cx="0" cy="8380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9"/>
          <p:cNvSpPr/>
          <p:nvPr/>
        </p:nvSpPr>
        <p:spPr>
          <a:xfrm>
            <a:off x="4952880" y="3124080"/>
            <a:ext cx="3962520" cy="1312920"/>
          </a:xfrm>
          <a:prstGeom prst="rect">
            <a:avLst/>
          </a:prstGeom>
          <a:solidFill>
            <a:srgbClr val="fbeffb"/>
          </a:solidFill>
          <a:ln w="9360">
            <a:solidFill>
              <a:srgbClr val="f9e7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vector is oriented dow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560" y="274680"/>
            <a:ext cx="8381880" cy="944640"/>
          </a:xfrm>
          <a:prstGeom prst="rect">
            <a:avLst/>
          </a:prstGeom>
          <a:solidFill>
            <a:srgbClr val="fafde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3. A baseball tossed up in the air, at the top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4"/>
          <p:cNvSpPr/>
          <p:nvPr/>
        </p:nvSpPr>
        <p:spPr>
          <a:xfrm>
            <a:off x="2666880" y="190512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5"/>
          <p:cNvSpPr/>
          <p:nvPr/>
        </p:nvSpPr>
        <p:spPr>
          <a:xfrm>
            <a:off x="1981080" y="5867280"/>
            <a:ext cx="4267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WordArt 6"/>
          <p:cNvSpPr txBox="1"/>
          <p:nvPr/>
        </p:nvSpPr>
        <p:spPr>
          <a:xfrm>
            <a:off x="5257800" y="2590920"/>
            <a:ext cx="2743200" cy="23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Answ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87" name="Freeform 7"/>
          <p:cNvSpPr/>
          <p:nvPr/>
        </p:nvSpPr>
        <p:spPr>
          <a:xfrm>
            <a:off x="2666880" y="1981080"/>
            <a:ext cx="228600" cy="3886200"/>
          </a:xfrm>
          <a:custGeom>
            <a:avLst/>
            <a:gdLst/>
            <a:ahLst/>
            <a:rect l="l" t="t" r="r" b="b"/>
            <a:pathLst>
              <a:path w="144" h="2448">
                <a:moveTo>
                  <a:pt x="0" y="2448"/>
                </a:moveTo>
                <a:cubicBezTo>
                  <a:pt x="12" y="1224"/>
                  <a:pt x="24" y="0"/>
                  <a:pt x="48" y="0"/>
                </a:cubicBezTo>
                <a:cubicBezTo>
                  <a:pt x="72" y="0"/>
                  <a:pt x="128" y="2040"/>
                  <a:pt x="144" y="2448"/>
                </a:cubicBezTo>
              </a:path>
            </a:pathLst>
          </a:custGeom>
          <a:noFill/>
          <a:ln cap="rnd" w="2844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7T00:41:26Z</dcterms:created>
  <dc:creator>Home</dc:creator>
  <dc:description/>
  <dc:language>en-US</dc:language>
  <cp:lastModifiedBy>RomaK</cp:lastModifiedBy>
  <dcterms:modified xsi:type="dcterms:W3CDTF">2015-09-03T12:21:28Z</dcterms:modified>
  <cp:revision>5</cp:revision>
  <dc:subject/>
  <dc:title>Direction of acceleration due to gravity</dc:title>
</cp:coreProperties>
</file>